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BD5-DD09-4701-B6B2-FA118C7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C2D-E91D-44E1-A75C-F40188C2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07E-B802-444F-BB19-852A5A22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7F1-48B6-43C1-9923-5F5486DD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ECB3-95E1-459F-B0E9-4D2B6698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DC6C-DB8A-4856-8FED-68A9274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D986-DF3C-47DA-864F-498A1F8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519-6DB2-48F9-9BD4-4202A594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222-97C2-40A8-945A-3A0B2CFB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F0C1-D675-4C8A-AC58-469343F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E984-BCB5-4D37-974E-4292D60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EF1-D86A-404B-A4DE-D07D466D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FD1-FDB1-4C41-94C4-3930AC9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B803-3879-403D-8139-E6B44D8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F645-C5E4-48E9-B74E-1FB9C715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A6A-AB71-4A99-B0BB-83FD1865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FA70-5265-4A63-BB7C-168E5C7E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073-CB02-465B-BD05-9F82707F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8A2-DDA5-4322-A46F-9F1DAA4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E4C-06A1-4BA5-8873-B565AE1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95D-A76D-432A-B474-EF7624E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E32-7702-45EF-B7A6-473C786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DB3-FEB5-48F3-8B6D-E188714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1EE-C80E-43D8-B076-9767C374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5D1-9C1D-45F6-85E4-B8F310EEE3B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6233-18A8-458C-AD9E-DDA7E2DDD2B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does the word leukemi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n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y :Zach Konieczn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An unpleasant thing to look 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. A disease in which too many white blood cells are form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. Mental illness in which a person acts or talks in a wild w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. An unpleasant thing to look a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. A disease in which too many white blood cells are form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. Mental illness in which a person acts or talks in a wild wa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ukem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correct answer is……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A disease in witch too many white blood cells are form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image11_s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anks for watching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12:26Z</dcterms:created>
  <dc:creator>Zach</dc:creator>
  <dc:description/>
  <dc:language>en-US</dc:language>
  <cp:lastModifiedBy>Zach</cp:lastModifiedBy>
  <dcterms:modified xsi:type="dcterms:W3CDTF">2010-11-09T14:48:19Z</dcterms:modified>
  <cp:revision>7</cp:revision>
  <dc:subject/>
  <dc:title>What does the word leukemia Mean?</dc:title>
</cp:coreProperties>
</file>